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4BF6-028F-4482-93C4-2E42553F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631-C104-46A1-BB4D-C021BDA0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5A5-9210-4D8C-9219-66AC1F2E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A6F-444F-4337-8BEF-9B846D01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FF2-3862-40E9-B596-A95D1B85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39A-40BD-4455-9A17-5C9AEF09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82B-F581-40C2-BCC4-C90D135A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E91-8105-4AF8-9AC7-95FD057B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572-24D9-4D37-AE5B-2AC9EF2B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177-BECC-4AF9-8ECF-703EEDA2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4CB-AD37-4316-B07F-1E27F67D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B20-DB17-4559-BE40-02E06BCB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7B3B-9C7D-405B-8754-6886C582F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Door crossing vid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Omnidirectional camera view and remapp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4120" y="10666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95280" y="4114800"/>
            <a:ext cx="6477120" cy="981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295280" y="5410080"/>
            <a:ext cx="6477120" cy="981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0360" y="22860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obot original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080" y="53352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Ground plan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440" y="365760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ccff"/>
                </a:solidFill>
                <a:latin typeface="Arial"/>
              </a:rPr>
              <a:t>Panoramic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.C.</cp:lastModifiedBy>
  <dcterms:modified xsi:type="dcterms:W3CDTF">2000-10-25T10:41:15Z</dcterms:modified>
  <cp:revision>11</cp:revision>
  <dc:subject/>
  <dc:title>Door crossing videos</dc:title>
</cp:coreProperties>
</file>